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749-A721-46A1-AEB8-6F2FABF5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32E-75A1-4DEE-88CC-4DE9AB1C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089-2D50-4351-B9B2-CFD05843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7EA-8729-46CB-BA03-F0219091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4CE-9DD1-4FE2-B93D-87361FE6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841-4655-44D9-9CF5-48330FF8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A3C-DBA7-480E-AA7A-1A559E04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F45-2E8F-4BCD-9700-E2949E11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3D5-80AA-49AC-932E-AD8AB7DF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0F4-1EBD-4B06-9BA7-D6398FCF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938-67FF-4214-9B8E-42361AC1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6A2-762F-49C2-B76F-45A4D753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6BB7-771A-46FA-B296-9C510FDDA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7.xml"/><Relationship Id="rId27" Type="http://schemas.openxmlformats.org/officeDocument/2006/relationships/slide" Target="slide59.xml"/><Relationship Id="rId28" Type="http://schemas.openxmlformats.org/officeDocument/2006/relationships/slide" Target="slide61.xml"/><Relationship Id="rId29" Type="http://schemas.openxmlformats.org/officeDocument/2006/relationships/slide" Target="slide63.xml"/><Relationship Id="rId30" Type="http://schemas.openxmlformats.org/officeDocument/2006/relationships/slide" Target="slide65.xml"/><Relationship Id="rId31" Type="http://schemas.openxmlformats.org/officeDocument/2006/relationships/slide" Target="slide67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Jeopardy_Think_Music.mp3" descr=""/>
          <p:cNvPicPr/>
          <p:nvPr/>
        </p:nvPicPr>
        <p:blipFill>
          <a:blip r:embed="rId5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37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384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8513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523880" y="205740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gag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4114800" y="57150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90720" y="20574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vey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ople's opin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2133720" y="312408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4114800" y="57150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838080" y="1523880"/>
            <a:ext cx="7543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conducted by an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any and then offered for s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everyone in an industry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523880" y="23623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ic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14400" y="1676520"/>
            <a:ext cx="73152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ff researchers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k with exter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agenci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523880" y="2057400"/>
            <a:ext cx="5943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ent-S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838080" y="1219320"/>
            <a:ext cx="75438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3 job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ctions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researc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523880" y="990720"/>
            <a:ext cx="59436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uct surve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ther info about 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ck s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ze advertising da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recommendations abou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mo, distrib, design &amp; 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219320" y="1828800"/>
            <a:ext cx="6781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rst of seven step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Market Research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295280" y="1523880"/>
            <a:ext cx="70106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143000" y="1676520"/>
            <a:ext cx="67816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cover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e Probl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762120" y="1828800"/>
            <a:ext cx="7696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mall # representati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large group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905120" y="259092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219320" y="1523880"/>
            <a:ext cx="670536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nge of pri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for a categ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erchandis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1219320" y="1828800"/>
            <a:ext cx="6705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st step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 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838080" y="1828800"/>
            <a:ext cx="74678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lement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aluate Res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3962520" y="5791320"/>
            <a:ext cx="1447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838080" y="1828800"/>
            <a:ext cx="7543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use of powerfu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ers to "dig-up" da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ed to make decis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828800" y="2438280"/>
            <a:ext cx="5486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t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3962520" y="594360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914400" y="1828800"/>
            <a:ext cx="7543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gath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fically focused 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ingle target marke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1828800" y="2209680"/>
            <a:ext cx="5715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838080" y="182880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orts of other comple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are used to hel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e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1371600" y="1828800"/>
            <a:ext cx="6477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38098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914400" y="23623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used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business is aw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1447920" y="2209680"/>
            <a:ext cx="6172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609480" y="2133720"/>
            <a:ext cx="79250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used to determ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 and effect relationships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oblem is already clearly defin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990720" y="1828800"/>
            <a:ext cx="74674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40384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143000" y="1523880"/>
            <a:ext cx="6934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conducted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business is unaw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exact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447920" y="2362320"/>
            <a:ext cx="62481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ora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762120" y="1905120"/>
            <a:ext cx="7772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way a produc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iated i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ds of consu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 their competit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752480" y="2819520"/>
            <a:ext cx="5639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c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3962520" y="594360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09480" y="2286000"/>
            <a:ext cx="8077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ocess by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ctics are implement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905120" y="2286000"/>
            <a:ext cx="5333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685800" y="1676520"/>
            <a:ext cx="77724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jor events where rel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dustries meet to exhib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ir products, exchange idea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learn about the lastest trend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2133720" y="1981080"/>
            <a:ext cx="4800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37339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09480" y="2362320"/>
            <a:ext cx="8077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gath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your competit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905120" y="2133720"/>
            <a:ext cx="5333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llig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41148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609480" y="1676520"/>
            <a:ext cx="78487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ur sour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we can 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 information ab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r competitors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95280" y="1371600"/>
            <a:ext cx="6324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e Show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38098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09480" y="1828800"/>
            <a:ext cx="8001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recisely written docu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escribes the tactic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 that will be us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market the produc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066680" y="2057400"/>
            <a:ext cx="72392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828800" y="1219320"/>
            <a:ext cx="54100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1752480"/>
            <a:ext cx="79246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ing the information s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it has meaning and dra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clusions that relate to the defin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research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752480" y="289548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pre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914400" y="2514600"/>
            <a:ext cx="74674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ic marketing 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ucted to solve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828800" y="2438280"/>
            <a:ext cx="5410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li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838080" y="1981080"/>
            <a:ext cx="76201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s at which a busin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es contact with consu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ing websites, email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ne calls or advertising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1828800" y="2971800"/>
            <a:ext cx="5410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chpoi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1143000" y="2286000"/>
            <a:ext cx="7010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oad group of consumers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not targeted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40384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85800" y="2057400"/>
            <a:ext cx="79246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ies the n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busines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reason it exis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914400" y="1219320"/>
            <a:ext cx="7391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orts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ertain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1905120" y="1600200"/>
            <a:ext cx="5257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762120" y="1676520"/>
            <a:ext cx="76960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sales potential for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w product is tried in a re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other small market prior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s final release nationall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1905120" y="1600200"/>
            <a:ext cx="5257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1066680" y="1752480"/>
            <a:ext cx="70866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the product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any has avail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customers 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one tim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905120" y="1981080"/>
            <a:ext cx="5257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du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rtfoli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>
            <a:off x="990720" y="2133720"/>
            <a:ext cx="7010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three maj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nents to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Pla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1371600" y="1523880"/>
            <a:ext cx="66294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lemen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1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685800" y="1905120"/>
            <a:ext cx="78487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3 of the 5 top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ered under Implemen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Marketing Pla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2"/>
          <p:cNvSpPr txBox="1"/>
          <p:nvPr/>
        </p:nvSpPr>
        <p:spPr>
          <a:xfrm>
            <a:off x="1143000" y="1523880"/>
            <a:ext cx="6781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el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ignment of Responsibilit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Communic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iew &amp; Evalu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838080" y="1295280"/>
            <a:ext cx="7467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 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0" name="WordArt 3"/>
          <p:cNvSpPr txBox="1"/>
          <p:nvPr/>
        </p:nvSpPr>
        <p:spPr>
          <a:xfrm>
            <a:off x="762120" y="3505320"/>
            <a:ext cx="746748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hat is the differenc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between Market Research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&amp; Marketing Research?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41" name="Jeopardy_Think_Music.mp3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1373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523880" y="2057400"/>
            <a:ext cx="6019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914400" y="114300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 - conducted specificall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or target market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ing - conducted to solve broad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cope of marketing problem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11">
            <a:hlinkClick r:id="rId2"/>
          </p:cNvPr>
          <p:cNvSpPr/>
          <p:nvPr/>
        </p:nvSpPr>
        <p:spPr>
          <a:xfrm>
            <a:off x="6094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ee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f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search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3276720" y="380880"/>
            <a:ext cx="1143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4724280" y="3049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m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n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ports &amp;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tertainm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4">
            <a:hlinkClick r:id="rId32" action="ppaction://hlinksldjump"/>
          </p:cNvPr>
          <p:cNvSpPr/>
          <p:nvPr/>
        </p:nvSpPr>
        <p:spPr>
          <a:xfrm>
            <a:off x="8763120" y="64771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106668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eat customers who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letely loyal to the company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ducts are known a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sundlin</cp:lastModifiedBy>
  <dcterms:modified xsi:type="dcterms:W3CDTF">2011-02-04T20:05:16Z</dcterms:modified>
  <cp:revision>71</cp:revision>
  <dc:subject/>
  <dc:title>No Slide Title</dc:title>
</cp:coreProperties>
</file>